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6C50-9C65-4417-936E-F46B1B037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4AC9-49C2-4254-9F32-CD745B16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82AF-3F76-4284-A26D-E70EA682A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E2CD-4A1B-4DE4-8A68-43CB4D300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6F24-B6F6-4090-8658-0B951F36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793B-5CEE-48AB-A3D1-B76980A1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BC49-081B-4432-A612-24CCBD18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FCF9-1A67-45DF-A476-C955F9EC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976B-13B1-42A5-B98D-A73699FD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6FBF-4B41-412D-8506-3E14AE55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D59B-1E99-4949-BC40-3311FF9A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E927-5686-4DE6-A46B-522B8A2B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7514-44BB-4F57-8C28-8D3ECF7ABE3D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47 Čo dať ti máme, Bože ná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dať ti máme, Bože ná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všetkým vládneš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šetko máš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y môžeme len česť ti vzda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vrúcnym srdcom ďak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ž dosiaľ nám si dal dosť sí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ľud tvoj ťa, Pane, prácou ctil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s láskou staval tento do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y chváliť mohol teba v ň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hnaj dom tento z milos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každej zbav nás úzkos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nám je miestom modlitieb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de ľud tvoj sýti z neba chlieb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en v tvoju pomoc dúfa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si dnes vrúcne želá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y pobyt v tvojej blízkos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l nám vždy zdrojom rad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iež stále nám je tento do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íbytku slávy symbolo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de všetko zlo sa pomini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ľud tvoj v tebe spočinie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7:17:40Z</dcterms:modified>
  <cp:revision>51</cp:revision>
  <dc:subject/>
  <dc:title>Je veľký náš Pán, on slávy je Kráľ Nech do všetkých strán  spev vrúcnych znie chvál.</dc:title>
</cp:coreProperties>
</file>